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gif" ContentType="image/gif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389592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92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892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808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940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808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940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892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92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892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389592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SzPct val="4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SzPct val="4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SzPct val="4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00"/>
            </a:gs>
            <a:gs pos="100000">
              <a:srgbClr val="511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oudy Stout"/>
              </a:rPr>
              <a:t>Module 11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Types Of Memory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7" descr="memory"/>
          <p:cNvPicPr/>
          <p:nvPr/>
        </p:nvPicPr>
        <p:blipFill>
          <a:blip r:embed="rId1"/>
          <a:stretch/>
        </p:blipFill>
        <p:spPr>
          <a:xfrm>
            <a:off x="3276720" y="3048120"/>
            <a:ext cx="248112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TRA CREDIT?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0419791410324549601629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elix Titling"/>
              </a:rPr>
              <a:t>Features of Long Term Memory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ers estimate that the capacity is almost un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how information was encoded &amp; the amount of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ato0061l"/>
          <p:cNvPicPr/>
          <p:nvPr/>
        </p:nvPicPr>
        <p:blipFill>
          <a:blip r:embed="rId1"/>
          <a:stretch/>
        </p:blipFill>
        <p:spPr>
          <a:xfrm>
            <a:off x="4952880" y="3657600"/>
            <a:ext cx="30481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oudy Stout"/>
              </a:rPr>
              <a:t>Accuracy of LT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1"/>
          <a:stretch/>
        </p:blipFill>
        <p:spPr>
          <a:xfrm>
            <a:off x="1547640" y="1955880"/>
            <a:ext cx="6046920" cy="3149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1523880" y="5105520"/>
            <a:ext cx="609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 data from “Accuracy and Distortion in Memory for High School Girls,” by H. P. Bahrick, L. K. Hall &amp; S. A. Berger, 1996, Psychological Science, 7, 265-27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7fdfc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vidence for 2 Separate Memory System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760" y="9907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macy vs. Recen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macy effect refers to better recall of information presented at the beginning of a tas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cency effect refers to better recall of information presented at the end of a tas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macy-Recency Effe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9751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33"/>
            </a:gs>
            <a:gs pos="100000">
              <a:srgbClr val="20130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LT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760" y="990720"/>
            <a:ext cx="4610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Declarative memo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olves memories for factors or ev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cludes semantic &amp; episodic memo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semantic memor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volves knowledge of facts, concepts, words, definitions &amp; language rules (e.g., what you learn in clas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episodic memory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involves knowledge of specific events, personal experiences, or activities (e.g., activities in colleg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BRAINprac"/>
          <p:cNvPicPr/>
          <p:nvPr/>
        </p:nvPicPr>
        <p:blipFill>
          <a:blip r:embed="rId1"/>
          <a:stretch/>
        </p:blipFill>
        <p:spPr>
          <a:xfrm>
            <a:off x="4952880" y="1066680"/>
            <a:ext cx="284796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Rockwell Extra Bold"/>
              </a:rPr>
              <a:t>Types of LT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361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cedural or Nondeclarative memo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emories for motor skills, some cognitive skills (learning to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read), and emotional behaviors learned through classical conditio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 cannot recall or retrieve procedural memo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adsen_Dancing_Steps"/>
          <p:cNvPicPr/>
          <p:nvPr/>
        </p:nvPicPr>
        <p:blipFill>
          <a:blip r:embed="rId1"/>
          <a:stretch/>
        </p:blipFill>
        <p:spPr>
          <a:xfrm>
            <a:off x="5334120" y="1905120"/>
            <a:ext cx="3051000" cy="46749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5334120" y="914400"/>
            <a:ext cx="304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k Madsen cannot retrieve how he learned to dance so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Rockwell Extra Bold"/>
              </a:rPr>
              <a:t>2 Kinds of Enco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ff99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ff9900"/>
                </a:solidFill>
                <a:uFillTx/>
                <a:latin typeface="Arial"/>
              </a:rPr>
              <a:t>Automatic Encoding</a:t>
            </a:r>
            <a:r>
              <a:rPr b="0" lang="en-US" sz="21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Arial"/>
              </a:rPr>
              <a:t>Transfer of information from STM to LTM without any effort &amp; usually without aware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Arial"/>
              </a:rPr>
              <a:t>Usually things you are interested i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99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ff9900"/>
                </a:solidFill>
                <a:uFillTx/>
                <a:latin typeface="Arial"/>
              </a:rPr>
              <a:t>Effortful Encod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Arial"/>
              </a:rPr>
              <a:t>Transfer of information from STM to LTM either by </a:t>
            </a:r>
            <a:r>
              <a:rPr b="1" i="1" lang="en-US" sz="2100" spc="-1" strike="noStrike" u="sng">
                <a:solidFill>
                  <a:srgbClr val="ff9900"/>
                </a:solidFill>
                <a:uFillTx/>
                <a:latin typeface="Arial"/>
              </a:rPr>
              <a:t>working hard</a:t>
            </a:r>
            <a:r>
              <a:rPr b="0" lang="en-US" sz="2100" spc="-1" strike="noStrike">
                <a:solidFill>
                  <a:srgbClr val="ff9900"/>
                </a:solidFill>
                <a:latin typeface="Arial"/>
              </a:rPr>
              <a:t> to repeat or rehearse the information, or especially by making associations between new &amp; old in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Arial"/>
              </a:rPr>
              <a:t>Studying for a te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9900"/>
                </a:solidFill>
                <a:latin typeface="Arial"/>
              </a:rPr>
              <a:t>Elaborative rehears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ff9900"/>
              </a:buClr>
              <a:buSzPct val="60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Arial"/>
              </a:rPr>
              <a:t>Using effort to make meaningful associ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9900"/>
                </a:solidFill>
                <a:latin typeface="Arial"/>
              </a:rPr>
              <a:t>Maintenance rehears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ff9900"/>
              </a:buClr>
              <a:buSzPct val="60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Arial"/>
              </a:rPr>
              <a:t>simply repeating information, rather than forming any new associ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randy2"/>
          <p:cNvPicPr/>
          <p:nvPr/>
        </p:nvPicPr>
        <p:blipFill>
          <a:blip r:embed="rId1"/>
          <a:stretch/>
        </p:blipFill>
        <p:spPr>
          <a:xfrm>
            <a:off x="1905120" y="1690560"/>
            <a:ext cx="495288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ff"/>
            </a:gs>
            <a:gs pos="100000">
              <a:srgbClr val="dff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4876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23619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anklin Gothic Book"/>
              </a:rPr>
              <a:t>Ability to retain information over time through 3 proces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anklin Gothic Book"/>
              </a:rPr>
              <a:t>making mental representations of informatio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anklin Gothic Book"/>
              </a:rPr>
              <a:t>process of placing encoded information into relatively permanent mental storage for later recal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Retri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anklin Gothic Book"/>
              </a:rPr>
              <a:t>process of recalling information that has been placed into short-term or long-term stor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memory-original-rav1"/>
          <p:cNvPicPr/>
          <p:nvPr/>
        </p:nvPicPr>
        <p:blipFill>
          <a:blip r:embed="rId1"/>
          <a:stretch/>
        </p:blipFill>
        <p:spPr>
          <a:xfrm>
            <a:off x="6705720" y="304920"/>
            <a:ext cx="18954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pperplate Gothic Bold"/>
              </a:rPr>
              <a:t>3 Types of Memory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5372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Sensory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nitial process that receives &amp; holds information in its raw form for a brief period of time (a video/audio recorder holds info for a second or 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Short-Term Memory (S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Holds on average 7 items of information for 2 to 30 se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Long-Term Memory (L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rocess of storing almost unlimited amounts of information over long periods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head"/>
          <p:cNvPicPr/>
          <p:nvPr/>
        </p:nvPicPr>
        <p:blipFill>
          <a:blip r:embed="rId1"/>
          <a:stretch/>
        </p:blipFill>
        <p:spPr>
          <a:xfrm>
            <a:off x="5867280" y="2057400"/>
            <a:ext cx="29340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2000-07-05"/>
          <p:cNvPicPr/>
          <p:nvPr/>
        </p:nvPicPr>
        <p:blipFill>
          <a:blip r:embed="rId1"/>
          <a:stretch/>
        </p:blipFill>
        <p:spPr>
          <a:xfrm>
            <a:off x="2666880" y="990720"/>
            <a:ext cx="38847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019560"/>
            <a:ext cx="8610480" cy="1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1000"/>
          </a:bodyPr>
          <a:p>
            <a:pPr marL="37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oudy Stout"/>
              </a:rPr>
              <a:t>Memory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293320" cy="2122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0" y="380880"/>
            <a:ext cx="8991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 Extra Bold"/>
              </a:rPr>
              <a:t>Sensory memory, Attention, STM, Encoding, LTM, Retri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Felix Titling"/>
              </a:rPr>
              <a:t>Sensory Memory: Recor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6760" y="9907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conic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524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utomatically holds </a:t>
            </a: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visual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information for ¼ of a sec. or mo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524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s soon as you shift your attention, the information disappea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524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hy you don’t “go blind” when both eyes close completely with a blin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choic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524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olds </a:t>
            </a: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auditory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memory for 1-2 sec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524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hat did you say??”....”Oh, ya…now I remember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2930544"/>
          <p:cNvPicPr/>
          <p:nvPr/>
        </p:nvPicPr>
        <p:blipFill>
          <a:blip r:embed="rId1"/>
          <a:stretch/>
        </p:blipFill>
        <p:spPr>
          <a:xfrm>
            <a:off x="3505320" y="2590920"/>
            <a:ext cx="1977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11111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elix Titling"/>
              </a:rPr>
              <a:t>3 Functions of Sensory Memory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0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Prevents one from being overwhel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2) Gives decision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3) Provides stability, playback &amp;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slash"/>
          <p:cNvPicPr/>
          <p:nvPr/>
        </p:nvPicPr>
        <p:blipFill>
          <a:blip r:embed="rId1"/>
          <a:stretch/>
        </p:blipFill>
        <p:spPr>
          <a:xfrm>
            <a:off x="5181480" y="3886200"/>
            <a:ext cx="2382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e5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urlz MT"/>
              </a:rPr>
              <a:t>2 Features of Short Term Memo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Bookman Old Style"/>
              </a:rPr>
              <a:t>Limited du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Bookman Old Style"/>
              </a:rPr>
              <a:t>Maintenance rehearsal</a:t>
            </a:r>
            <a:r>
              <a:rPr b="1" lang="en-US" sz="2100" spc="-1" strike="noStrike">
                <a:solidFill>
                  <a:srgbClr val="000000"/>
                </a:solidFill>
                <a:latin typeface="Bookman Old Style"/>
              </a:rPr>
              <a:t> retains information for longer periods of ti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Bookman Old Style"/>
              </a:rPr>
              <a:t>practice of intentionally rehearsing informa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152280" y="274320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the main reasons why information disappears from ST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ew information enters STM &amp; overwrites information that is already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un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ombining separate items of information into a larger unit and then remembering the chunks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 numbers are remembered in chu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2-706-1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6490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Bodoni MT"/>
              </a:rPr>
              <a:t>Rajan Mahadevan entered the </a:t>
            </a:r>
            <a:r>
              <a:rPr b="1" i="1" lang="en-US" sz="2100" spc="-1" strike="noStrike">
                <a:solidFill>
                  <a:srgbClr val="000000"/>
                </a:solidFill>
                <a:latin typeface="Bodoni MT"/>
              </a:rPr>
              <a:t>Guinness Book of World Records </a:t>
            </a:r>
            <a:r>
              <a:rPr b="1" lang="en-US" sz="2100" spc="-1" strike="noStrike">
                <a:solidFill>
                  <a:srgbClr val="000000"/>
                </a:solidFill>
                <a:latin typeface="Bodoni MT"/>
              </a:rPr>
              <a:t>for memorizing and reciting 31,811 digits of pi—it took him almost 4 hours to recite it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Bodoni MT"/>
              </a:rPr>
              <a:t>Rajan used </a:t>
            </a: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Bodoni MT"/>
              </a:rPr>
              <a:t>Chunking</a:t>
            </a:r>
            <a:r>
              <a:rPr b="1" lang="en-US" sz="2100" spc="-1" strike="noStrike">
                <a:solidFill>
                  <a:srgbClr val="000000"/>
                </a:solidFill>
                <a:latin typeface="Bodoni MT"/>
              </a:rPr>
              <a:t> to remember the numbers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31" descr="Figure 1."/>
          <p:cNvPicPr/>
          <p:nvPr/>
        </p:nvPicPr>
        <p:blipFill>
          <a:blip r:embed="rId1"/>
          <a:stretch/>
        </p:blipFill>
        <p:spPr>
          <a:xfrm>
            <a:off x="1905120" y="2666880"/>
            <a:ext cx="52290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9:20:29Z</dcterms:created>
  <dc:creator>Josh</dc:creator>
  <dc:description/>
  <dc:language>en-US</dc:language>
  <cp:lastModifiedBy>hberndt</cp:lastModifiedBy>
  <dcterms:modified xsi:type="dcterms:W3CDTF">2009-03-17T12:37:25Z</dcterms:modified>
  <cp:revision>38</cp:revision>
  <dc:subject/>
  <dc:title>No Slide Title</dc:title>
</cp:coreProperties>
</file>